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F04-47FF-4258-98F1-09921A58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0D2-2ED6-445B-961E-DFA7E149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1D2-FA42-4F98-85E4-D98E0671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152-10AF-4EF2-B691-BE1A9F99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F21-E2E2-44B1-96CE-317682D2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B66-D788-4087-A228-1A61FF61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5F3-6B45-4F78-B2C7-B713D92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0D2-0AED-4DA1-80A9-9E62614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AD0-7F02-43DE-BEBA-41FE8CA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751-48B6-45AC-813A-0A23F2E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128-0ACB-4B53-B876-B7B6022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496-F2D0-4EA3-9FAC-AF9F2C8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A712-A51B-4499-8863-F202DB07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 – Chapter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hart listing at least three things for each of the categorie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Leading Up to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bout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– 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US go to war against Spain in 18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right for the US to extend its power into colonial l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n opportunity for the US to advance as a world lea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Ti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NO, ONE, etc.) partner answer the following questions for the slides, pictures and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HEET PE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IS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is it appropriate for the United States to send soldiers to fight on foreign so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ree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an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tect territory close to U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p human rights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quire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nation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read or protect American values and mor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against dictato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no circumstances 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(expl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– Section 2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the Yellow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he contribute to the “newspaper war” between Hearst and Pulitz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competition for readers between newspapers play in the US decision to go to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ditor’s to Blame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to the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being bla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e being blam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an editor want to start a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editor do to start a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American readers react to the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99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itor’s to Blame (Part 2)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ook at Image 20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isten to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ems to have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headline, what is the cause of the explo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Americans felt when they saw this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e songwriter felt about how editors reacted to this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proof, why might newspapers have published an explanation of the explo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817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 read the section and 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de Lom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de Lome letter and USS Maine incident enourage the government to go to war with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Image 20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ntries appear to be fighting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think this battle is being fou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these countries are figh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ppears to be winning this bat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Image 2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Uncle Sam need the larger suit he is being fitt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what they are carrying, what do you think the men entering the room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cKinley’s response to these anti-imperial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cartoonist seem to agree with US expansion?  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8:11:04Z</dcterms:created>
  <dc:creator> </dc:creator>
  <dc:description/>
  <dc:language>en-US</dc:language>
  <cp:lastModifiedBy>School District U46</cp:lastModifiedBy>
  <dcterms:modified xsi:type="dcterms:W3CDTF">2008-10-27T12:13:31Z</dcterms:modified>
  <cp:revision>9</cp:revision>
  <dc:subject/>
  <dc:title>The Spanish-American War</dc:title>
</cp:coreProperties>
</file>